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EE34-93D1-40C1-A353-B8EF291C1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8404-9382-4873-8B16-4D0358E4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7619-24F2-49FF-9A42-F01A0554C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9554-83BF-4968-A2C7-4AE68B8F4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9FA3-0B3B-4A3B-9EBA-2D85F02E5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166E-A099-4940-9A6B-45596A36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B4B7-528C-484F-B71B-312F5F7D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C446-ECCE-4DE9-A94F-8274029B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CBFD-C6D4-4952-8795-1C01B9BC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75A3-7479-45E2-82FB-3C3D9A8B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04DE-2F66-4F6E-A22E-2DE180BA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B27E-2E93-49DF-8861-02AD9550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706B-186A-4C88-9143-B7041AB0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9E98-DA9C-4F93-B1F3-C2FC56C4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E3EF-2FDF-4F7F-92AB-4BC2884A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4ADF-D3E6-4D5F-BAB2-FB0C33E3D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47F6-7975-4D81-8518-F8809CBA3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670D-F424-4E49-A6A3-AFE5B777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2DF8-B853-4439-81BD-62F7FDE7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5B5B-7010-467D-BEFE-6A086290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1D66-A7D8-4A19-9BA4-D229B06C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9044-F23D-4A0A-92D9-CE6F4513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5C23-1154-406B-86E7-E7F97C83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F2BF-23B1-4A2A-A57E-682CC3B9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2542-493D-415C-B56A-F542A016D7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115920"/>
            <a:ext cx="37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8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2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6410-2F1B-4325-8C65-4050D17760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995280" y="1052640"/>
            <a:ext cx="4248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odstawową jednostką długości stosowaną w Polsce do początków XX wieku był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łokieć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stosowany do mierzenia tekstyliów i krótszych przedmiotów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Długości łokcia były ustalane lokalnie dlatego różniły się one miedzy sobą. Na początku XVI wieku </a:t>
            </a:r>
            <a:r>
              <a:rPr b="1" lang="pl-PL" sz="1600" spc="-1" strike="noStrike">
                <a:solidFill>
                  <a:srgbClr val="3366ff"/>
                </a:solidFill>
                <a:latin typeface="Arial"/>
              </a:rPr>
              <a:t>łokieć krakowski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był krótszy o 14 cm od </a:t>
            </a:r>
            <a:r>
              <a:rPr b="1" lang="pl-PL" sz="1600" spc="-1" strike="noStrike">
                <a:solidFill>
                  <a:srgbClr val="3366ff"/>
                </a:solidFill>
                <a:latin typeface="Arial"/>
              </a:rPr>
              <a:t>łokcia lwowskiego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Inną jednostką miary długości była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stopa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, która służyła między innymi do mierzenia odległości np. przy sadzeniu kartofl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Jednostką służącą do mierzenia głównie drewna, sieci oraz dłuższych przedmiotów był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sążeń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Obraz 12" descr="http://www.qdnet.pl/unas/nr35/miary_1.JPG"/>
          <p:cNvPicPr/>
          <p:nvPr/>
        </p:nvPicPr>
        <p:blipFill>
          <a:blip r:embed="rId1"/>
          <a:stretch/>
        </p:blipFill>
        <p:spPr>
          <a:xfrm>
            <a:off x="1835280" y="549360"/>
            <a:ext cx="900000" cy="5184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16000" y="580536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Łokieć polski z 1651 ro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2068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STAROPOLSKIE JEDNOSTKI DŁUGOŚCI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46280" y="6764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Obraz 14" descr=""/>
          <p:cNvPicPr/>
          <p:nvPr/>
        </p:nvPicPr>
        <p:blipFill>
          <a:blip r:embed="rId1"/>
          <a:stretch/>
        </p:blipFill>
        <p:spPr>
          <a:xfrm>
            <a:off x="1150920" y="1736640"/>
            <a:ext cx="1871640" cy="1152720"/>
          </a:xfrm>
          <a:prstGeom prst="rect">
            <a:avLst/>
          </a:prstGeom>
          <a:ln w="0">
            <a:noFill/>
          </a:ln>
        </p:spPr>
      </p:pic>
      <p:pic>
        <p:nvPicPr>
          <p:cNvPr id="100" name="Obraz 16" descr=""/>
          <p:cNvPicPr/>
          <p:nvPr/>
        </p:nvPicPr>
        <p:blipFill>
          <a:blip r:embed="rId2"/>
          <a:stretch/>
        </p:blipFill>
        <p:spPr>
          <a:xfrm>
            <a:off x="6551640" y="1089000"/>
            <a:ext cx="931680" cy="1798560"/>
          </a:xfrm>
          <a:prstGeom prst="rect">
            <a:avLst/>
          </a:prstGeom>
          <a:ln w="0">
            <a:noFill/>
          </a:ln>
        </p:spPr>
      </p:pic>
      <p:pic>
        <p:nvPicPr>
          <p:cNvPr id="101" name="Obraz 15" descr=""/>
          <p:cNvPicPr/>
          <p:nvPr/>
        </p:nvPicPr>
        <p:blipFill>
          <a:blip r:embed="rId3"/>
          <a:stretch/>
        </p:blipFill>
        <p:spPr>
          <a:xfrm>
            <a:off x="1332000" y="3824280"/>
            <a:ext cx="1379520" cy="1944720"/>
          </a:xfrm>
          <a:prstGeom prst="rect">
            <a:avLst/>
          </a:prstGeom>
          <a:ln w="0">
            <a:noFill/>
          </a:ln>
        </p:spPr>
      </p:pic>
      <p:pic>
        <p:nvPicPr>
          <p:cNvPr id="102" name="Obraz 17" descr=""/>
          <p:cNvPicPr/>
          <p:nvPr/>
        </p:nvPicPr>
        <p:blipFill>
          <a:blip r:embed="rId4"/>
          <a:stretch/>
        </p:blipFill>
        <p:spPr>
          <a:xfrm>
            <a:off x="3708360" y="1628640"/>
            <a:ext cx="1727280" cy="1287720"/>
          </a:xfrm>
          <a:prstGeom prst="rect">
            <a:avLst/>
          </a:prstGeom>
          <a:ln w="0">
            <a:noFill/>
          </a:ln>
        </p:spPr>
      </p:pic>
      <p:pic>
        <p:nvPicPr>
          <p:cNvPr id="103" name="Obraz 19" descr=""/>
          <p:cNvPicPr/>
          <p:nvPr/>
        </p:nvPicPr>
        <p:blipFill>
          <a:blip r:embed="rId5"/>
          <a:stretch/>
        </p:blipFill>
        <p:spPr>
          <a:xfrm>
            <a:off x="6372360" y="4044960"/>
            <a:ext cx="1774800" cy="1724040"/>
          </a:xfrm>
          <a:prstGeom prst="rect">
            <a:avLst/>
          </a:prstGeom>
          <a:ln w="0">
            <a:noFill/>
          </a:ln>
        </p:spPr>
      </p:pic>
      <p:pic>
        <p:nvPicPr>
          <p:cNvPr id="104" name="Obraz 18" descr=""/>
          <p:cNvPicPr/>
          <p:nvPr/>
        </p:nvPicPr>
        <p:blipFill>
          <a:blip r:embed="rId6"/>
          <a:stretch/>
        </p:blipFill>
        <p:spPr>
          <a:xfrm>
            <a:off x="3770280" y="4508640"/>
            <a:ext cx="1602000" cy="1290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92000" y="3068640"/>
            <a:ext cx="27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top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odległość między piętą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końcem najdłuższego palca st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595008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Łokie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odległość od łokcia do środkowego pal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92720" y="3068640"/>
            <a:ext cx="161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ło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zerokość czterech palców rę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3068640"/>
            <a:ext cx="197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Pięd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odległość między końcem kciuka i końcem środkowego pal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5950080"/>
            <a:ext cx="197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Kro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odległość między piętą jednej a piętą drugiej stopy podczas chodz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832360" y="5950080"/>
            <a:ext cx="27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ąże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zerokość rozpostartych ramion – tą jednostkę wymierzano ścięte drzewo układane w stosy zwane sąga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Podaj, jakie jednostki długości </a:t>
            </a:r>
            <a:br>
              <a:rPr sz="2400"/>
            </a:b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występują w wierszach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2000" y="2349360"/>
            <a:ext cx="4321440" cy="31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66ff"/>
                </a:solidFill>
                <a:latin typeface="Arial"/>
              </a:rPr>
              <a:t>Jean de La Fontaine - </a:t>
            </a:r>
            <a:r>
              <a:rPr b="0" i="1" lang="pl-PL" sz="1600" spc="-1" strike="noStrike">
                <a:solidFill>
                  <a:srgbClr val="3366ff"/>
                </a:solidFill>
                <a:latin typeface="Arial"/>
              </a:rPr>
              <a:t>Żółw i zają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Chyży, wysmukły i zwrotny zając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Napotkał żółwia jakoś przebiegając.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"Jak się masz, moja ty skorupo! - rzecze. -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Gdzie to się waszmość tak pomału wlecze?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Mój Boże! Cóż to za układ natury!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Mnie w biegu i sam wiatr nie upędzi,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Żółw na godzinę, w swym chodzie ponury,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Ledwo upełznie trzy piędzi."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"Hola! - odpowie - mój ty wiatronogi: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Umiem ja chodzić i odbywam drogi: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Mogę i ciebie ubiec do celu."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92720" y="1808280"/>
            <a:ext cx="288144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66ff"/>
                </a:solidFill>
                <a:latin typeface="Arial"/>
              </a:rPr>
              <a:t>Maria Kryńska–Szost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 moim ogrodzie są studni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yschnięte na cztery sążni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amion twych nie wystarcz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by objąć ani dosięgnąć d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a łez by napełnić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92720" y="4156200"/>
            <a:ext cx="324000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66ff"/>
                </a:solidFill>
                <a:latin typeface="Arial"/>
              </a:rPr>
              <a:t>Vicino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Na bezludnej wysiąść wyspie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Gdzie ogromny pałac sto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 nim kominek – oczywiści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 bibliotece mnóstwo książek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A w sypialni z baldachimem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Stoi łoże na sześć łokci 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640" y="-179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MIERZENIE ODCINKÓW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92000" y="728640"/>
            <a:ext cx="806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92000" y="108900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yznaczanie długości odcinka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50920" y="1449360"/>
            <a:ext cx="738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dcinek MN jest </a:t>
            </a: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odcinkiem jednostkowy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co zapisujemy |MN| = 1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czytamy: </a:t>
            </a: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długość odcinka MN jest równa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92360" y="2349360"/>
            <a:ext cx="2158920" cy="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92360" y="2843280"/>
            <a:ext cx="539640" cy="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11280" y="2168640"/>
            <a:ext cx="53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11280" y="234144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72000" y="234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11280" y="28828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97000" y="288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50920" y="3338640"/>
            <a:ext cx="756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ysujemy prostą a, po czym odkładamy na niej odcinek MN za pomocą cyrk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50920" y="5950080"/>
            <a:ext cx="738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52000" y="55897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 rot="2464200">
            <a:off x="926640" y="4059360"/>
            <a:ext cx="1906560" cy="19065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 rot="2464200">
            <a:off x="1510920" y="4059360"/>
            <a:ext cx="1906560" cy="1906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 rot="2464200">
            <a:off x="2096640" y="4059360"/>
            <a:ext cx="1906560" cy="1906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 rot="2464200">
            <a:off x="2680920" y="4059360"/>
            <a:ext cx="1906560" cy="190656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1422360" y="5950080"/>
            <a:ext cx="2656080" cy="368280"/>
            <a:chOff x="1422360" y="5950080"/>
            <a:chExt cx="2656080" cy="368280"/>
          </a:xfrm>
        </p:grpSpPr>
        <p:sp>
          <p:nvSpPr>
            <p:cNvPr id="134" name=""/>
            <p:cNvSpPr/>
            <p:nvPr/>
          </p:nvSpPr>
          <p:spPr>
            <a:xfrm>
              <a:off x="1422360" y="5950080"/>
              <a:ext cx="31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62360" y="5950080"/>
              <a:ext cx="31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5021280" y="4194000"/>
            <a:ext cx="3222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Odcinek MN mieści się 4 razy w odcinku KL, zatem długość odcinka KL równa się 4, co zapisujemy |KL| =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71640" y="-179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MIERZENIE ODCINK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92000" y="728640"/>
            <a:ext cx="806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Obraz 24" descr=""/>
          <p:cNvPicPr/>
          <p:nvPr/>
        </p:nvPicPr>
        <p:blipFill>
          <a:blip r:embed="rId1"/>
          <a:srcRect l="1585" t="6590" r="1303" b="8112"/>
          <a:stretch/>
        </p:blipFill>
        <p:spPr>
          <a:xfrm>
            <a:off x="1476360" y="3500280"/>
            <a:ext cx="7056360" cy="1516320"/>
          </a:xfrm>
          <a:prstGeom prst="rect">
            <a:avLst/>
          </a:prstGeom>
          <a:ln w="0">
            <a:noFill/>
          </a:ln>
        </p:spPr>
      </p:pic>
      <p:pic>
        <p:nvPicPr>
          <p:cNvPr id="140" name="Obraz 24" descr=""/>
          <p:cNvPicPr/>
          <p:nvPr/>
        </p:nvPicPr>
        <p:blipFill>
          <a:blip r:embed="rId2"/>
          <a:srcRect l="1585" t="6590" r="1303" b="8112"/>
          <a:stretch/>
        </p:blipFill>
        <p:spPr>
          <a:xfrm>
            <a:off x="1476360" y="1268280"/>
            <a:ext cx="7059600" cy="1516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692360" y="3573360"/>
            <a:ext cx="39592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47640" y="3284640"/>
            <a:ext cx="40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08720" y="3284640"/>
            <a:ext cx="26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35280" y="51577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Długość odcinka AB równa się 12 cm, co zapisujemy |AB| = 12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rot="2464200">
            <a:off x="6556320" y="2285640"/>
            <a:ext cx="2587680" cy="2587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71640" y="-142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MIERZENIE ODCINK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765000"/>
            <a:ext cx="806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63720" y="1263600"/>
            <a:ext cx="765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dmierzanie długości odcinka za pomocą cyrkla i linij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25520" y="1805040"/>
            <a:ext cx="652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ny jest odcinek KL. Odmierzamy jego długość za pomocą cyrkla i przykładamy do linij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Obraz 24" descr=""/>
          <p:cNvPicPr/>
          <p:nvPr/>
        </p:nvPicPr>
        <p:blipFill>
          <a:blip r:embed="rId2"/>
          <a:srcRect l="1585" t="6590" r="1303" b="8112"/>
          <a:stretch/>
        </p:blipFill>
        <p:spPr>
          <a:xfrm>
            <a:off x="2166840" y="5353200"/>
            <a:ext cx="5591160" cy="1201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458120" y="4871880"/>
            <a:ext cx="780840" cy="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157880" y="4932360"/>
            <a:ext cx="162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KL| = 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4.07407E-006 L -0.55886 0.07893 E">
                                      <p:cBhvr>
                                        <p:cTn id="106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050920" y="1557360"/>
            <a:ext cx="583416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66ff"/>
                </a:solidFill>
                <a:uFillTx/>
                <a:latin typeface="Verdana"/>
              </a:rPr>
              <a:t>Ćwiczenie: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rysuj dowolny odcinek. Obierz odcinek jednostkowy i zmierz długość odcinka za pomocą cyrkla i linijk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71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JEDNOSTKI DŁUGOŚCI </a:t>
            </a:r>
            <a:br>
              <a:rPr sz="3000"/>
            </a:b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UŻYWANE NAJCZĘŚCIE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1123920"/>
            <a:ext cx="806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16360" y="1989000"/>
            <a:ext cx="4176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66ff"/>
                </a:solidFill>
                <a:latin typeface="Arial"/>
              </a:rPr>
              <a:t>1 milimetr – 1 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66ff"/>
                </a:solidFill>
                <a:latin typeface="Arial"/>
              </a:rPr>
              <a:t>1 centymetr – 1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66ff"/>
                </a:solidFill>
                <a:latin typeface="Arial"/>
              </a:rPr>
              <a:t>1 decymetr – 1 d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66ff"/>
                </a:solidFill>
                <a:latin typeface="Arial"/>
              </a:rPr>
              <a:t>1 metr – 1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66ff"/>
                </a:solidFill>
                <a:latin typeface="Arial"/>
              </a:rPr>
              <a:t>1 kilometr – 1 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71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ZALEŻNOŚCI MIĘDZY JEDNOSTKAMI DŁUGOŚ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6920" y="1123920"/>
            <a:ext cx="806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71640" y="2060640"/>
            <a:ext cx="7561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ff"/>
                </a:solidFill>
                <a:latin typeface="Arial"/>
              </a:rPr>
              <a:t>1 cm = 1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ff"/>
                </a:solidFill>
                <a:latin typeface="Arial"/>
              </a:rPr>
              <a:t>1 dm = 10 cm = 10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ff"/>
                </a:solidFill>
                <a:latin typeface="Arial"/>
              </a:rPr>
              <a:t>1 m = 10 dm = 100 cm = 1 00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ff"/>
                </a:solidFill>
                <a:latin typeface="Arial"/>
              </a:rPr>
              <a:t>1 km = 1 000 m = 10 000 dm = 100 000 cm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ff"/>
                </a:solidFill>
                <a:latin typeface="Arial"/>
              </a:rPr>
              <a:t>         </a:t>
            </a:r>
            <a:r>
              <a:rPr b="1" lang="pl-PL" sz="2800" spc="-1" strike="noStrike">
                <a:solidFill>
                  <a:srgbClr val="3366ff"/>
                </a:solidFill>
                <a:latin typeface="Arial"/>
              </a:rPr>
              <a:t>= 1 000 00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0:36:11Z</dcterms:created>
  <dc:creator>Darek</dc:creator>
  <dc:description/>
  <dc:language>en-US</dc:language>
  <cp:lastModifiedBy>Darek</cp:lastModifiedBy>
  <dcterms:modified xsi:type="dcterms:W3CDTF">2013-08-17T20:50:27Z</dcterms:modified>
  <cp:revision>15</cp:revision>
  <dc:subject/>
  <dc:title>Slajd 1</dc:title>
</cp:coreProperties>
</file>